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1C169-7AA5-4EF6-B6E9-714AB59C1EF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E725C-5B53-4007-A8C9-2D3D2D720E3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D4D03-C1D9-4B00-B206-748E656BFC3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CA196-2FE6-427A-8DA0-8732104C2B6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4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1FF75-7AE0-44E3-86B8-CDFAFAECE33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2ABF3-520F-4C93-A2D7-EEFB63ED1E0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2593B-0521-4BC7-A44A-070AE36B341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Text Box 2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ECE32-83CF-46CF-B4BD-269403170BF4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FFEFA-7850-4F79-BD62-C50E5BE1B0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6B2AB-095F-4B96-BE2C-934CCDEF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964A8-A274-43F3-ACC0-D465B4FB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251FB-438B-4AA8-94BE-DDCA65BBE9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3C174-7524-4998-B5B2-282B0E7965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5D8EC-1222-4B6B-9487-798FB110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2476E-506F-42A2-BB88-174BEADA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576EB-69F6-4B50-A744-A4B463D4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DCA99-C3C7-468B-90D6-453FC0BB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03AC0-77EF-47E6-AAE4-ADA55AE7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479DA-20A0-460E-BA41-8D2F8033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32831-4BC2-4BB7-B89E-47BBDFEB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BEA8C-D642-487B-96DB-BB096D29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20DC3-9612-4C59-A787-7732EA8C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0C5FA-68D1-4E01-8599-B84A5F18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7E2A9-91D3-47CD-A9FE-E5FFD94D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835FC-3240-40A1-905C-E499D619BA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CBDA-60E2-4A0A-A516-D0DA3FBBF8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BEA9-B5B8-4C97-B4B1-F94F220D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DD7F-A54F-48C3-B392-6BED52E6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BB23-E324-4BAE-A4ED-16E48DEE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C52D-333F-432A-8058-9AC02536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6F208-C79B-437B-AA05-4CCCD5F6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E136-5B4B-4ABE-B0E1-6DADCECD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77CE-56DE-47D7-99DF-D931FF53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6482-118B-47D0-84AF-0BA6D2C7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EEEB-A40E-4BF8-B024-78F55C80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4615-8D48-4940-BC8D-9A483EDD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E925-ABAF-4CBC-819D-34443CE6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B54F-290A-4363-8D6F-BFA24948E4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0E908-C20F-4173-8521-6B71B98A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1FB54-CAA9-4727-BCFD-468B7E3B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97436-0A4A-4FB8-98A3-C8595B56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3D466-E783-490F-ADD9-C150686E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A810D-8440-4E41-99A2-5BCFFA3C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9F780-FCDD-4035-B496-6D133972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 hidden="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 hidden="1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1208160" y="4343400"/>
            <a:ext cx="987588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96560" y="758520"/>
            <a:ext cx="10055160" cy="35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0/01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FB3F6D-7F57-43BE-BB45-6EA728017F4F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9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96560" y="1846080"/>
            <a:ext cx="1005516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9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alibri"/>
                <a:ea typeface="Segoe UI"/>
              </a:rPr>
              <a:t>30/01/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1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1B0568-BC56-4213-AA12-8C16BC05DD12}" type="slidenum">
              <a:rPr b="0" lang="it-IT" sz="11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9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alibri"/>
                <a:ea typeface="Segoe UI"/>
              </a:rPr>
              <a:t>30/01/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6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1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2E9067-8177-4B2F-AF3B-D9466AC87C4A}" type="slidenum">
              <a:rPr b="0" lang="it-IT" sz="11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758880"/>
            <a:ext cx="100584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alibri Light"/>
              </a:rPr>
              <a:t>Misurazione del Rischio – Allegato 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100160" y="445572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637052"/>
                </a:solidFill>
                <a:latin typeface="Calibri Light"/>
              </a:rPr>
              <a:t>METODOLOGIA E INDICATORI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8329680" y="476280"/>
            <a:ext cx="183348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l presente documento illustra sinteticamente la metodologia attuata da ATS a decorrere dal 20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 misurazione del rischio prevede l’attribuzione di un valore alle due variabili caratterizzanti il rischio stess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 Probabilità che l’evento accada (P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atto che tale evento genera (I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’interazione delle singole variabili consente di definire il livello di rischio del singolo proces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er ogni variabile sono stati individuati i fattori di valutazi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8616960" y="476280"/>
            <a:ext cx="183348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Probabilità – fattori di valutazi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73120" y="1670040"/>
          <a:ext cx="11183760" cy="4637160"/>
        </p:xfrm>
        <a:graphic>
          <a:graphicData uri="http://schemas.openxmlformats.org/drawingml/2006/table">
            <a:tbl>
              <a:tblPr/>
              <a:tblGrid>
                <a:gridCol w="3016080"/>
                <a:gridCol w="1554480"/>
                <a:gridCol w="1595160"/>
                <a:gridCol w="1716120"/>
                <a:gridCol w="1820880"/>
                <a:gridCol w="1481040"/>
              </a:tblGrid>
              <a:tr h="852480"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co 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lto 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amente 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ndice di Discrezionalità del proces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col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zialmente vincolata dalla legge e da atti amministrati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zialmente vincolata solo dalla leg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zialmente vincolata solo da atti amministrati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amente discrezi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decentralizzazione (UP, filiale, region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partimen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à operat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manualità (vs automazion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v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Manu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Efficacia dei controlli, per la neutralizzazione dei rischi, sulla base della esperienza pregres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un efficace strumento per neutralizzare il risch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molto effic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mediamente effic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minimamente effic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non incide sul rischi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Rilevanza Esterna: il processo ha come destinatari uffici interni alla ATS o utenti e  estern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non particolare 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media 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particolare 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elevata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</a:tbl>
          </a:graphicData>
        </a:graphic>
      </p:graphicFrame>
      <p:pic>
        <p:nvPicPr>
          <p:cNvPr id="151" name="Picture 125" descr=""/>
          <p:cNvPicPr/>
          <p:nvPr/>
        </p:nvPicPr>
        <p:blipFill>
          <a:blip r:embed="rId1"/>
          <a:stretch/>
        </p:blipFill>
        <p:spPr>
          <a:xfrm>
            <a:off x="8906040" y="333360"/>
            <a:ext cx="183348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Impatto – fattori di valutazi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87400" y="1819440"/>
          <a:ext cx="10593360" cy="3654360"/>
        </p:xfrm>
        <a:graphic>
          <a:graphicData uri="http://schemas.openxmlformats.org/drawingml/2006/table">
            <a:tbl>
              <a:tblPr/>
              <a:tblGrid>
                <a:gridCol w="2770200"/>
                <a:gridCol w="1763640"/>
                <a:gridCol w="1774800"/>
                <a:gridCol w="1486080"/>
                <a:gridCol w="1495440"/>
                <a:gridCol w="1303200"/>
              </a:tblGrid>
              <a:tr h="534960"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ascurabi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o/al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tto Economico: Sono state  pronunciate sentenze delle Corte conti o sentenze di risarcimento danno o comminate sanzion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Numerosità di persone coinvol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3 -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6 -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11 -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Oltre 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mpatto economico potenzi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eriore a 1.000 eu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1.001 euro e 1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10.001 euro e 5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50.001 euro e 10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tre 100.001 eu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collocazione del risch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et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arico di organizzaz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U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di UO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di Dipartimen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ono stati pubblicati su riviste giornali articoli aventi ad oggetto il proces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 ricor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loc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Nazi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internazi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</a:tbl>
          </a:graphicData>
        </a:graphic>
      </p:graphicFrame>
      <p:pic>
        <p:nvPicPr>
          <p:cNvPr id="154" name="Picture 125" descr=""/>
          <p:cNvPicPr/>
          <p:nvPr/>
        </p:nvPicPr>
        <p:blipFill>
          <a:blip r:embed="rId1"/>
          <a:stretch/>
        </p:blipFill>
        <p:spPr>
          <a:xfrm>
            <a:off x="8977320" y="333360"/>
            <a:ext cx="183348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Valutazione del risch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a probabilità (P) e o l’Impatto (I) sono misurati come la media dei punteggi attribuiti a ciascun fatt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’Indice di Rischio è dato dalla moltiplicazione del valore (medio) di probabilità con il valore (medio) di impatto: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R = P x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 Processi sono così classificat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Bass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inferiore o uguale a 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Medi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5 e inferiore o uguale a 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Medio/Alt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9 e inferiore o uguale a 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Alt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1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761320" y="404640"/>
            <a:ext cx="1833480" cy="6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Misurazione del risch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oup 2"/>
          <p:cNvGrpSpPr/>
          <p:nvPr/>
        </p:nvGrpSpPr>
        <p:grpSpPr>
          <a:xfrm>
            <a:off x="884160" y="2170080"/>
            <a:ext cx="9134640" cy="3962520"/>
            <a:chOff x="884160" y="2170080"/>
            <a:chExt cx="9134640" cy="3962520"/>
          </a:xfrm>
        </p:grpSpPr>
        <p:sp>
          <p:nvSpPr>
            <p:cNvPr id="160" name="Rectangle 3"/>
            <p:cNvSpPr/>
            <p:nvPr/>
          </p:nvSpPr>
          <p:spPr>
            <a:xfrm>
              <a:off x="7469280" y="4863960"/>
              <a:ext cx="10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Probabi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4"/>
            <p:cNvSpPr/>
            <p:nvPr/>
          </p:nvSpPr>
          <p:spPr>
            <a:xfrm>
              <a:off x="5888160" y="4863960"/>
              <a:ext cx="1719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"/>
            <p:cNvSpPr/>
            <p:nvPr/>
          </p:nvSpPr>
          <p:spPr>
            <a:xfrm>
              <a:off x="8790120" y="4863960"/>
              <a:ext cx="116676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Molto Probabi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3522600" y="4826160"/>
              <a:ext cx="1285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Rar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7"/>
            <p:cNvSpPr/>
            <p:nvPr/>
          </p:nvSpPr>
          <p:spPr>
            <a:xfrm>
              <a:off x="1776240" y="4772160"/>
              <a:ext cx="17179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4830840" y="4863960"/>
              <a:ext cx="13176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Bass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1749600" y="2495520"/>
              <a:ext cx="17157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Alt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10"/>
            <p:cNvSpPr/>
            <p:nvPr/>
          </p:nvSpPr>
          <p:spPr>
            <a:xfrm>
              <a:off x="1773360" y="293832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/alt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11"/>
            <p:cNvSpPr/>
            <p:nvPr/>
          </p:nvSpPr>
          <p:spPr>
            <a:xfrm>
              <a:off x="1749600" y="3355920"/>
              <a:ext cx="1766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12"/>
            <p:cNvSpPr/>
            <p:nvPr/>
          </p:nvSpPr>
          <p:spPr>
            <a:xfrm>
              <a:off x="1773360" y="389412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Basso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3"/>
            <p:cNvSpPr/>
            <p:nvPr/>
          </p:nvSpPr>
          <p:spPr>
            <a:xfrm>
              <a:off x="1838160" y="432576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Trascurabi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4"/>
            <p:cNvSpPr/>
            <p:nvPr/>
          </p:nvSpPr>
          <p:spPr>
            <a:xfrm>
              <a:off x="8704440" y="2413080"/>
              <a:ext cx="12254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e061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de06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200" spc="-1" strike="noStrike">
                  <a:solidFill>
                    <a:srgbClr val="000000"/>
                  </a:solidFill>
                  <a:latin typeface="Univers 55"/>
                </a:rPr>
                <a:t>Al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5"/>
            <p:cNvSpPr/>
            <p:nvPr/>
          </p:nvSpPr>
          <p:spPr>
            <a:xfrm>
              <a:off x="7377120" y="2413080"/>
              <a:ext cx="132408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Univers 55"/>
                </a:rPr>
                <a:t>Alt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16"/>
            <p:cNvSpPr/>
            <p:nvPr/>
          </p:nvSpPr>
          <p:spPr>
            <a:xfrm>
              <a:off x="6045120" y="2413080"/>
              <a:ext cx="1330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17"/>
            <p:cNvSpPr/>
            <p:nvPr/>
          </p:nvSpPr>
          <p:spPr>
            <a:xfrm>
              <a:off x="5881680" y="2529000"/>
              <a:ext cx="1716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18"/>
            <p:cNvSpPr/>
            <p:nvPr/>
          </p:nvSpPr>
          <p:spPr>
            <a:xfrm>
              <a:off x="8704440" y="2881440"/>
              <a:ext cx="1225440" cy="46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9"/>
            <p:cNvSpPr/>
            <p:nvPr/>
          </p:nvSpPr>
          <p:spPr>
            <a:xfrm>
              <a:off x="7377120" y="2881440"/>
              <a:ext cx="1324080" cy="46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7540560" y="2951280"/>
              <a:ext cx="1013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1"/>
            <p:cNvSpPr/>
            <p:nvPr/>
          </p:nvSpPr>
          <p:spPr>
            <a:xfrm>
              <a:off x="6033960" y="2878200"/>
              <a:ext cx="1330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5881680" y="2944800"/>
              <a:ext cx="1716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8955000" y="2957400"/>
              <a:ext cx="720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24"/>
            <p:cNvSpPr/>
            <p:nvPr/>
          </p:nvSpPr>
          <p:spPr>
            <a:xfrm>
              <a:off x="8704440" y="3333600"/>
              <a:ext cx="122544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25"/>
            <p:cNvSpPr/>
            <p:nvPr/>
          </p:nvSpPr>
          <p:spPr>
            <a:xfrm>
              <a:off x="6045120" y="3333600"/>
              <a:ext cx="133056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26"/>
            <p:cNvSpPr/>
            <p:nvPr/>
          </p:nvSpPr>
          <p:spPr>
            <a:xfrm>
              <a:off x="5854680" y="3394080"/>
              <a:ext cx="1765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27"/>
            <p:cNvSpPr/>
            <p:nvPr/>
          </p:nvSpPr>
          <p:spPr>
            <a:xfrm>
              <a:off x="8832960" y="3409920"/>
              <a:ext cx="9842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28"/>
            <p:cNvSpPr/>
            <p:nvPr/>
          </p:nvSpPr>
          <p:spPr>
            <a:xfrm>
              <a:off x="8704440" y="3800520"/>
              <a:ext cx="12254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29"/>
            <p:cNvSpPr/>
            <p:nvPr/>
          </p:nvSpPr>
          <p:spPr>
            <a:xfrm>
              <a:off x="7377120" y="3800520"/>
              <a:ext cx="132408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30"/>
            <p:cNvSpPr/>
            <p:nvPr/>
          </p:nvSpPr>
          <p:spPr>
            <a:xfrm>
              <a:off x="6045120" y="3800520"/>
              <a:ext cx="133056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31"/>
            <p:cNvSpPr/>
            <p:nvPr/>
          </p:nvSpPr>
          <p:spPr>
            <a:xfrm>
              <a:off x="8832960" y="3879720"/>
              <a:ext cx="9842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32"/>
            <p:cNvSpPr/>
            <p:nvPr/>
          </p:nvSpPr>
          <p:spPr>
            <a:xfrm>
              <a:off x="8704440" y="4267080"/>
              <a:ext cx="122544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3"/>
            <p:cNvSpPr/>
            <p:nvPr/>
          </p:nvSpPr>
          <p:spPr>
            <a:xfrm>
              <a:off x="6045120" y="4267080"/>
              <a:ext cx="133056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Univers 55"/>
                </a:rPr>
                <a:t>Bass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34"/>
            <p:cNvSpPr/>
            <p:nvPr/>
          </p:nvSpPr>
          <p:spPr>
            <a:xfrm>
              <a:off x="3510000" y="2387520"/>
              <a:ext cx="1317600" cy="534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35"/>
            <p:cNvSpPr/>
            <p:nvPr/>
          </p:nvSpPr>
          <p:spPr>
            <a:xfrm>
              <a:off x="4811760" y="2403360"/>
              <a:ext cx="1224000" cy="46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-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36"/>
            <p:cNvSpPr/>
            <p:nvPr/>
          </p:nvSpPr>
          <p:spPr>
            <a:xfrm>
              <a:off x="4827600" y="2878200"/>
              <a:ext cx="122220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99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37"/>
            <p:cNvSpPr/>
            <p:nvPr/>
          </p:nvSpPr>
          <p:spPr>
            <a:xfrm>
              <a:off x="3497400" y="2874960"/>
              <a:ext cx="132552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38"/>
            <p:cNvSpPr/>
            <p:nvPr/>
          </p:nvSpPr>
          <p:spPr>
            <a:xfrm>
              <a:off x="3587760" y="2949480"/>
              <a:ext cx="1144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39"/>
            <p:cNvSpPr/>
            <p:nvPr/>
          </p:nvSpPr>
          <p:spPr>
            <a:xfrm>
              <a:off x="3492360" y="3340080"/>
              <a:ext cx="13226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40"/>
            <p:cNvSpPr/>
            <p:nvPr/>
          </p:nvSpPr>
          <p:spPr>
            <a:xfrm>
              <a:off x="4818240" y="3809880"/>
              <a:ext cx="12254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41"/>
            <p:cNvSpPr/>
            <p:nvPr/>
          </p:nvSpPr>
          <p:spPr>
            <a:xfrm>
              <a:off x="3492360" y="3809880"/>
              <a:ext cx="13226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42"/>
            <p:cNvSpPr/>
            <p:nvPr/>
          </p:nvSpPr>
          <p:spPr>
            <a:xfrm>
              <a:off x="5114880" y="3886200"/>
              <a:ext cx="7048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43"/>
            <p:cNvSpPr/>
            <p:nvPr/>
          </p:nvSpPr>
          <p:spPr>
            <a:xfrm>
              <a:off x="4818240" y="4272120"/>
              <a:ext cx="12254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44"/>
            <p:cNvSpPr/>
            <p:nvPr/>
          </p:nvSpPr>
          <p:spPr>
            <a:xfrm>
              <a:off x="3492360" y="4272120"/>
              <a:ext cx="13226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45"/>
            <p:cNvSpPr/>
            <p:nvPr/>
          </p:nvSpPr>
          <p:spPr>
            <a:xfrm>
              <a:off x="4889520" y="4341960"/>
              <a:ext cx="11304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46"/>
            <p:cNvSpPr/>
            <p:nvPr/>
          </p:nvSpPr>
          <p:spPr>
            <a:xfrm>
              <a:off x="7381800" y="3367080"/>
              <a:ext cx="1317600" cy="41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47"/>
            <p:cNvSpPr/>
            <p:nvPr/>
          </p:nvSpPr>
          <p:spPr>
            <a:xfrm>
              <a:off x="4829040" y="3340080"/>
              <a:ext cx="1222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99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48"/>
            <p:cNvSpPr/>
            <p:nvPr/>
          </p:nvSpPr>
          <p:spPr>
            <a:xfrm>
              <a:off x="3768840" y="3421080"/>
              <a:ext cx="7030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49"/>
            <p:cNvSpPr/>
            <p:nvPr/>
          </p:nvSpPr>
          <p:spPr>
            <a:xfrm>
              <a:off x="3598920" y="4336920"/>
              <a:ext cx="1146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50"/>
            <p:cNvSpPr/>
            <p:nvPr/>
          </p:nvSpPr>
          <p:spPr>
            <a:xfrm>
              <a:off x="3598920" y="3894120"/>
              <a:ext cx="11332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51"/>
            <p:cNvSpPr/>
            <p:nvPr/>
          </p:nvSpPr>
          <p:spPr>
            <a:xfrm>
              <a:off x="4259160" y="5432400"/>
              <a:ext cx="3780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Probabilità     </a:t>
              </a:r>
              <a:br>
                <a:rPr sz="2000"/>
              </a:b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Scala da 1 a 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52"/>
            <p:cNvSpPr/>
            <p:nvPr/>
          </p:nvSpPr>
          <p:spPr>
            <a:xfrm rot="16200000">
              <a:off x="-213480" y="3267720"/>
              <a:ext cx="280368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Impatto </a:t>
              </a:r>
              <a:br>
                <a:rPr sz="2000"/>
              </a:b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Scala da 1a 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3"/>
            <p:cNvSpPr/>
            <p:nvPr/>
          </p:nvSpPr>
          <p:spPr>
            <a:xfrm>
              <a:off x="3510000" y="2387520"/>
              <a:ext cx="0" cy="236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54"/>
            <p:cNvSpPr/>
            <p:nvPr/>
          </p:nvSpPr>
          <p:spPr>
            <a:xfrm>
              <a:off x="456732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55"/>
            <p:cNvSpPr/>
            <p:nvPr/>
          </p:nvSpPr>
          <p:spPr>
            <a:xfrm>
              <a:off x="4567320" y="383220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56"/>
            <p:cNvSpPr/>
            <p:nvPr/>
          </p:nvSpPr>
          <p:spPr>
            <a:xfrm>
              <a:off x="4567320" y="3398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57"/>
            <p:cNvSpPr/>
            <p:nvPr/>
          </p:nvSpPr>
          <p:spPr>
            <a:xfrm>
              <a:off x="4567320" y="292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58"/>
            <p:cNvSpPr/>
            <p:nvPr/>
          </p:nvSpPr>
          <p:spPr>
            <a:xfrm>
              <a:off x="456732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59"/>
            <p:cNvSpPr/>
            <p:nvPr/>
          </p:nvSpPr>
          <p:spPr>
            <a:xfrm>
              <a:off x="579744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60"/>
            <p:cNvSpPr/>
            <p:nvPr/>
          </p:nvSpPr>
          <p:spPr>
            <a:xfrm>
              <a:off x="7118280" y="4282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61"/>
            <p:cNvSpPr/>
            <p:nvPr/>
          </p:nvSpPr>
          <p:spPr>
            <a:xfrm>
              <a:off x="9671040" y="4282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62"/>
            <p:cNvSpPr/>
            <p:nvPr/>
          </p:nvSpPr>
          <p:spPr>
            <a:xfrm>
              <a:off x="967104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63"/>
            <p:cNvSpPr/>
            <p:nvPr/>
          </p:nvSpPr>
          <p:spPr>
            <a:xfrm>
              <a:off x="9671040" y="38527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64"/>
            <p:cNvSpPr/>
            <p:nvPr/>
          </p:nvSpPr>
          <p:spPr>
            <a:xfrm>
              <a:off x="967104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65"/>
            <p:cNvSpPr/>
            <p:nvPr/>
          </p:nvSpPr>
          <p:spPr>
            <a:xfrm>
              <a:off x="9671040" y="238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2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66"/>
            <p:cNvSpPr/>
            <p:nvPr/>
          </p:nvSpPr>
          <p:spPr>
            <a:xfrm>
              <a:off x="8439120" y="238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67"/>
            <p:cNvSpPr/>
            <p:nvPr/>
          </p:nvSpPr>
          <p:spPr>
            <a:xfrm>
              <a:off x="843912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68"/>
            <p:cNvSpPr/>
            <p:nvPr/>
          </p:nvSpPr>
          <p:spPr>
            <a:xfrm>
              <a:off x="843912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69"/>
            <p:cNvSpPr/>
            <p:nvPr/>
          </p:nvSpPr>
          <p:spPr>
            <a:xfrm>
              <a:off x="8439120" y="3789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70"/>
            <p:cNvSpPr/>
            <p:nvPr/>
          </p:nvSpPr>
          <p:spPr>
            <a:xfrm>
              <a:off x="7118280" y="3789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71"/>
            <p:cNvSpPr/>
            <p:nvPr/>
          </p:nvSpPr>
          <p:spPr>
            <a:xfrm>
              <a:off x="711828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72"/>
            <p:cNvSpPr/>
            <p:nvPr/>
          </p:nvSpPr>
          <p:spPr>
            <a:xfrm>
              <a:off x="711828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73"/>
            <p:cNvSpPr/>
            <p:nvPr/>
          </p:nvSpPr>
          <p:spPr>
            <a:xfrm>
              <a:off x="5797440" y="292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74"/>
            <p:cNvSpPr/>
            <p:nvPr/>
          </p:nvSpPr>
          <p:spPr>
            <a:xfrm>
              <a:off x="5797440" y="3398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75"/>
            <p:cNvSpPr/>
            <p:nvPr/>
          </p:nvSpPr>
          <p:spPr>
            <a:xfrm>
              <a:off x="571176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76"/>
            <p:cNvSpPr/>
            <p:nvPr/>
          </p:nvSpPr>
          <p:spPr>
            <a:xfrm>
              <a:off x="711828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1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77"/>
            <p:cNvSpPr/>
            <p:nvPr/>
          </p:nvSpPr>
          <p:spPr>
            <a:xfrm>
              <a:off x="5797440" y="383220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78"/>
            <p:cNvSpPr/>
            <p:nvPr/>
          </p:nvSpPr>
          <p:spPr>
            <a:xfrm>
              <a:off x="7381800" y="4278240"/>
              <a:ext cx="13176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79"/>
            <p:cNvSpPr/>
            <p:nvPr/>
          </p:nvSpPr>
          <p:spPr>
            <a:xfrm>
              <a:off x="843912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80"/>
            <p:cNvSpPr/>
            <p:nvPr/>
          </p:nvSpPr>
          <p:spPr>
            <a:xfrm>
              <a:off x="3510000" y="4756320"/>
              <a:ext cx="6419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8" name="Picture 82" descr=""/>
          <p:cNvPicPr/>
          <p:nvPr/>
        </p:nvPicPr>
        <p:blipFill>
          <a:blip r:embed="rId1"/>
          <a:stretch/>
        </p:blipFill>
        <p:spPr>
          <a:xfrm>
            <a:off x="4457880" y="1397160"/>
            <a:ext cx="3263760" cy="4063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4" descr=""/>
          <p:cNvPicPr/>
          <p:nvPr/>
        </p:nvPicPr>
        <p:blipFill>
          <a:blip r:embed="rId2"/>
          <a:stretch/>
        </p:blipFill>
        <p:spPr>
          <a:xfrm>
            <a:off x="9121680" y="404640"/>
            <a:ext cx="1833480" cy="61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3T15:31:24Z</dcterms:created>
  <dc:creator>Ugo Porcu</dc:creator>
  <dc:description/>
  <cp:keywords/>
  <dc:language>en-US</dc:language>
  <cp:lastModifiedBy>854804roggiero</cp:lastModifiedBy>
  <dcterms:modified xsi:type="dcterms:W3CDTF">2022-04-29T09:44:40Z</dcterms:modified>
  <cp:revision>143</cp:revision>
  <dc:subject/>
  <dc:title>Presentazione standard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1</vt:r8>
  </property>
  <property fmtid="{D5CDD505-2E9C-101B-9397-08002B2CF9AE}" pid="7" name="PresentationFormat">
    <vt:lpwstr>Widescreen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6</vt:r8>
  </property>
</Properties>
</file>