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7B01D-899D-4720-83BC-CBACFA4525C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E7911-761A-4ACF-BFC0-EC6B8E4FF76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CFA0A-5E6F-4940-BC26-A44FE1699AA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61C2D-E4E0-4D64-904C-C378353A044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5FB15-983E-441B-9285-CF9705CE6B9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3D097-162B-4C1F-A40D-F9FD4494BE9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5D715-82E2-4424-BF58-BEEC99E96D0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Text Box 2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FD7B9-41F8-4904-9A72-F2B7D95BCB5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CA9A-D077-4D8B-80C3-380984CE68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A76A2-A566-48BE-B357-CDE55912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ECA2-4432-42DA-8881-DC12F1DF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81FAE-B9E6-44C1-9238-41A2FB18FD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E8823-7D5B-463A-9C61-010FBD4B9A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D1104-AE22-4801-A6B0-0365C6D6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9C8FD-9490-4ED7-A18B-15E26196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CFA3D-8FA7-4846-AEA3-022DA1F1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15302-84C9-46D6-9EB0-C5059F70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23D8B-DBF0-4B84-86DA-6CD4FD7A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D638D-31CD-4AF6-AF10-B6BDFA73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CA58-26CD-4DD9-8ADF-6FC33769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78A1C-5983-4A7B-8955-ACBEA8A3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7484F-35A2-47AB-81B6-E9303277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732EA-6D37-4C6B-AFF6-17B74FA0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C518C-B9BA-47CA-BD06-D0D3C206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1992A-FAB8-4541-A8CD-A1F8C274D3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5E03-05F7-41AE-AE59-3BBC94FB1C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DE1A-5556-4A91-949C-1804D027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377C-E6B8-4604-B033-1A5D94C8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027C-BCA1-41AE-B3E0-DC55F1B2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72F0-86F5-491F-8C82-74FC6C24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25F5A-78B6-4617-9174-2B14904B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718B-376D-4E13-9B15-E4B39F22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DF61-BD47-4C86-A722-9C46455C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058B-73AA-409F-9BA7-0766D60F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A93E-AE1B-444E-93BC-E4D26A9B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16BC-CB3E-4ADE-88DD-1D7DA81D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ADAB-B5E2-4C3C-9FF2-F07B4F5E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9719-F09C-4108-B856-AD6E938C3B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EA1B-A61A-414F-8E56-A2488914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C8B21-B154-4204-BCB8-9CA64A9A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843A-842D-4904-9136-265BD2F6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E6135-581F-47D4-8212-09738AEA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15BE-C982-4586-A42C-0EE65E58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77D02-342A-41EB-B2CB-69759DC5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 hidden="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 hidden="1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1208160" y="4343400"/>
            <a:ext cx="987588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6560" y="758520"/>
            <a:ext cx="10055160" cy="35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0/01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B1C092-36B2-4587-BCF7-F993B2BD4E74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96560" y="1846080"/>
            <a:ext cx="1005516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9DF677-5852-413C-A1B7-C55EEA252EF0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6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7625AA-04D4-4E83-92ED-4031464F5EAC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alibri Light"/>
              </a:rPr>
              <a:t>Misurazione del Rischio – Allegato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100160" y="44557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637052"/>
                </a:solidFill>
                <a:latin typeface="Calibri Light"/>
              </a:rPr>
              <a:t>METODOLOGIA E INDICATORI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8329680" y="47628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l presente documento illustra sinteticamente la metodologia attuata da ATS a decorrere dal 20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misurazione del rischio prevede l’attribuzione di un valore alle due variabili caratterizzanti il rischio stess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Probabilità che l’evento accada (P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atto che tale evento genera (I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’interazione delle singole variabili consente di definire il livello di rischio del singolo proces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er ogni variabile sono stati individuati i fattori di valutazi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8616960" y="47628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robabilità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3120" y="1670040"/>
          <a:ext cx="11183760" cy="4637160"/>
        </p:xfrm>
        <a:graphic>
          <a:graphicData uri="http://schemas.openxmlformats.org/drawingml/2006/table">
            <a:tbl>
              <a:tblPr/>
              <a:tblGrid>
                <a:gridCol w="3016080"/>
                <a:gridCol w="1554480"/>
                <a:gridCol w="1595160"/>
                <a:gridCol w="1716120"/>
                <a:gridCol w="1820880"/>
                <a:gridCol w="1481040"/>
              </a:tblGrid>
              <a:tr h="85248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co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to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amente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ndice di Discrezionalità del proce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col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dalla legge e da atti amministrati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solo dalla leg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solo da atti amministrati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amente discre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decentralizzazione (UP, filiale, region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partim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à opera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manualità (vs automazion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v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Manu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Efficacia dei controlli, per la neutralizzazione dei rischi, sulla base della esperienza pregre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un efficace strumento per neutralizzare il risch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olto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ediamente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inimamente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non incide sul rischi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Rilevanza Esterna: il processo ha come destinatari uffici interni alla ATS o utenti e  ester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non particolare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media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particolare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elevata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  <p:pic>
        <p:nvPicPr>
          <p:cNvPr id="151" name="Picture 125" descr=""/>
          <p:cNvPicPr/>
          <p:nvPr/>
        </p:nvPicPr>
        <p:blipFill>
          <a:blip r:embed="rId1"/>
          <a:stretch/>
        </p:blipFill>
        <p:spPr>
          <a:xfrm>
            <a:off x="8906040" y="33336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Impatto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87400" y="1819440"/>
          <a:ext cx="10593360" cy="3654360"/>
        </p:xfrm>
        <a:graphic>
          <a:graphicData uri="http://schemas.openxmlformats.org/drawingml/2006/table">
            <a:tbl>
              <a:tblPr/>
              <a:tblGrid>
                <a:gridCol w="2770200"/>
                <a:gridCol w="1763640"/>
                <a:gridCol w="1774800"/>
                <a:gridCol w="1486080"/>
                <a:gridCol w="1495440"/>
                <a:gridCol w="1303200"/>
              </a:tblGrid>
              <a:tr h="53496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ascurabi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/al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tto Economico: Sono state  pronunciate sentenze delle Corte conti o sentenze di risarcimento danno o comminate sanzio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umerosità di persone coinvol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3 -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6 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11 -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ltre 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mpatto economico potenzi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eriore a 1.000 eu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.001 euro e 1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0.001 euro e 5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50.001 euro e 10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tre 100.001 eu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collocazione del risch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et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arico di organizz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U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UO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Dipartim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ono stati pubblicati su riviste giornali articoli aventi ad oggetto il proce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ricor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loc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Na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interna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  <p:pic>
        <p:nvPicPr>
          <p:cNvPr id="154" name="Picture 125" descr=""/>
          <p:cNvPicPr/>
          <p:nvPr/>
        </p:nvPicPr>
        <p:blipFill>
          <a:blip r:embed="rId1"/>
          <a:stretch/>
        </p:blipFill>
        <p:spPr>
          <a:xfrm>
            <a:off x="8977320" y="33336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Valut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a probabilità (P) e o l’Impatto (I) sono misurati come la media dei punteggi attribuiti a ciascun fatt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’Indice di Rischio è dato dalla moltiplicazione del valore (medio) di probabilità con il valore (medio) di impatto: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R = P x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 Processi sono così classificat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Bass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inferiore o uguale a 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5 e inferiore o uguale a 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/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9 e inferiore o uguale a 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1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761320" y="404640"/>
            <a:ext cx="1833480" cy="6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Misur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oup 2"/>
          <p:cNvGrpSpPr/>
          <p:nvPr/>
        </p:nvGrpSpPr>
        <p:grpSpPr>
          <a:xfrm>
            <a:off x="884160" y="2170080"/>
            <a:ext cx="9134640" cy="3962520"/>
            <a:chOff x="884160" y="2170080"/>
            <a:chExt cx="9134640" cy="3962520"/>
          </a:xfrm>
        </p:grpSpPr>
        <p:sp>
          <p:nvSpPr>
            <p:cNvPr id="160" name="Rectangle 3"/>
            <p:cNvSpPr/>
            <p:nvPr/>
          </p:nvSpPr>
          <p:spPr>
            <a:xfrm>
              <a:off x="7469280" y="4863960"/>
              <a:ext cx="10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Prob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4"/>
            <p:cNvSpPr/>
            <p:nvPr/>
          </p:nvSpPr>
          <p:spPr>
            <a:xfrm>
              <a:off x="5888160" y="4863960"/>
              <a:ext cx="1719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"/>
            <p:cNvSpPr/>
            <p:nvPr/>
          </p:nvSpPr>
          <p:spPr>
            <a:xfrm>
              <a:off x="8790120" y="4863960"/>
              <a:ext cx="11667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Molto Prob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3522600" y="4826160"/>
              <a:ext cx="1285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Rar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7"/>
            <p:cNvSpPr/>
            <p:nvPr/>
          </p:nvSpPr>
          <p:spPr>
            <a:xfrm>
              <a:off x="1776240" y="4772160"/>
              <a:ext cx="17179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4830840" y="4863960"/>
              <a:ext cx="13176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Bass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1749600" y="2495520"/>
              <a:ext cx="17157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Alt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1773360" y="293832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/alt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11"/>
            <p:cNvSpPr/>
            <p:nvPr/>
          </p:nvSpPr>
          <p:spPr>
            <a:xfrm>
              <a:off x="1749600" y="3355920"/>
              <a:ext cx="1766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12"/>
            <p:cNvSpPr/>
            <p:nvPr/>
          </p:nvSpPr>
          <p:spPr>
            <a:xfrm>
              <a:off x="1773360" y="389412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Basso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3"/>
            <p:cNvSpPr/>
            <p:nvPr/>
          </p:nvSpPr>
          <p:spPr>
            <a:xfrm>
              <a:off x="1838160" y="432576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Trascur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4"/>
            <p:cNvSpPr/>
            <p:nvPr/>
          </p:nvSpPr>
          <p:spPr>
            <a:xfrm>
              <a:off x="8704440" y="2413080"/>
              <a:ext cx="12254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061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e06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5"/>
            <p:cNvSpPr/>
            <p:nvPr/>
          </p:nvSpPr>
          <p:spPr>
            <a:xfrm>
              <a:off x="7377120" y="2413080"/>
              <a:ext cx="132408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6045120" y="2413080"/>
              <a:ext cx="1330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5881680" y="2529000"/>
              <a:ext cx="17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8"/>
            <p:cNvSpPr/>
            <p:nvPr/>
          </p:nvSpPr>
          <p:spPr>
            <a:xfrm>
              <a:off x="8704440" y="2881440"/>
              <a:ext cx="1225440" cy="46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9"/>
            <p:cNvSpPr/>
            <p:nvPr/>
          </p:nvSpPr>
          <p:spPr>
            <a:xfrm>
              <a:off x="7377120" y="2881440"/>
              <a:ext cx="1324080" cy="46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7540560" y="2951280"/>
              <a:ext cx="101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6033960" y="2878200"/>
              <a:ext cx="1330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5881680" y="2944800"/>
              <a:ext cx="17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8955000" y="2957400"/>
              <a:ext cx="720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24"/>
            <p:cNvSpPr/>
            <p:nvPr/>
          </p:nvSpPr>
          <p:spPr>
            <a:xfrm>
              <a:off x="8704440" y="3333600"/>
              <a:ext cx="122544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25"/>
            <p:cNvSpPr/>
            <p:nvPr/>
          </p:nvSpPr>
          <p:spPr>
            <a:xfrm>
              <a:off x="6045120" y="3333600"/>
              <a:ext cx="133056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26"/>
            <p:cNvSpPr/>
            <p:nvPr/>
          </p:nvSpPr>
          <p:spPr>
            <a:xfrm>
              <a:off x="5854680" y="3394080"/>
              <a:ext cx="1765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>
              <a:off x="8832960" y="3409920"/>
              <a:ext cx="984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28"/>
            <p:cNvSpPr/>
            <p:nvPr/>
          </p:nvSpPr>
          <p:spPr>
            <a:xfrm>
              <a:off x="8704440" y="3800520"/>
              <a:ext cx="12254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29"/>
            <p:cNvSpPr/>
            <p:nvPr/>
          </p:nvSpPr>
          <p:spPr>
            <a:xfrm>
              <a:off x="7377120" y="3800520"/>
              <a:ext cx="132408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30"/>
            <p:cNvSpPr/>
            <p:nvPr/>
          </p:nvSpPr>
          <p:spPr>
            <a:xfrm>
              <a:off x="6045120" y="3800520"/>
              <a:ext cx="133056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31"/>
            <p:cNvSpPr/>
            <p:nvPr/>
          </p:nvSpPr>
          <p:spPr>
            <a:xfrm>
              <a:off x="8832960" y="3879720"/>
              <a:ext cx="984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32"/>
            <p:cNvSpPr/>
            <p:nvPr/>
          </p:nvSpPr>
          <p:spPr>
            <a:xfrm>
              <a:off x="8704440" y="4267080"/>
              <a:ext cx="122544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3"/>
            <p:cNvSpPr/>
            <p:nvPr/>
          </p:nvSpPr>
          <p:spPr>
            <a:xfrm>
              <a:off x="6045120" y="4267080"/>
              <a:ext cx="133056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Bass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34"/>
            <p:cNvSpPr/>
            <p:nvPr/>
          </p:nvSpPr>
          <p:spPr>
            <a:xfrm>
              <a:off x="3510000" y="2387520"/>
              <a:ext cx="1317600" cy="534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35"/>
            <p:cNvSpPr/>
            <p:nvPr/>
          </p:nvSpPr>
          <p:spPr>
            <a:xfrm>
              <a:off x="4811760" y="2403360"/>
              <a:ext cx="1224000" cy="46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-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36"/>
            <p:cNvSpPr/>
            <p:nvPr/>
          </p:nvSpPr>
          <p:spPr>
            <a:xfrm>
              <a:off x="4827600" y="2878200"/>
              <a:ext cx="122220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37"/>
            <p:cNvSpPr/>
            <p:nvPr/>
          </p:nvSpPr>
          <p:spPr>
            <a:xfrm>
              <a:off x="3497400" y="2874960"/>
              <a:ext cx="132552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38"/>
            <p:cNvSpPr/>
            <p:nvPr/>
          </p:nvSpPr>
          <p:spPr>
            <a:xfrm>
              <a:off x="3587760" y="2949480"/>
              <a:ext cx="1144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39"/>
            <p:cNvSpPr/>
            <p:nvPr/>
          </p:nvSpPr>
          <p:spPr>
            <a:xfrm>
              <a:off x="3492360" y="3340080"/>
              <a:ext cx="13226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40"/>
            <p:cNvSpPr/>
            <p:nvPr/>
          </p:nvSpPr>
          <p:spPr>
            <a:xfrm>
              <a:off x="4818240" y="3809880"/>
              <a:ext cx="12254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41"/>
            <p:cNvSpPr/>
            <p:nvPr/>
          </p:nvSpPr>
          <p:spPr>
            <a:xfrm>
              <a:off x="3492360" y="3809880"/>
              <a:ext cx="13226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42"/>
            <p:cNvSpPr/>
            <p:nvPr/>
          </p:nvSpPr>
          <p:spPr>
            <a:xfrm>
              <a:off x="5114880" y="3886200"/>
              <a:ext cx="7048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43"/>
            <p:cNvSpPr/>
            <p:nvPr/>
          </p:nvSpPr>
          <p:spPr>
            <a:xfrm>
              <a:off x="4818240" y="4272120"/>
              <a:ext cx="12254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44"/>
            <p:cNvSpPr/>
            <p:nvPr/>
          </p:nvSpPr>
          <p:spPr>
            <a:xfrm>
              <a:off x="3492360" y="4272120"/>
              <a:ext cx="13226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45"/>
            <p:cNvSpPr/>
            <p:nvPr/>
          </p:nvSpPr>
          <p:spPr>
            <a:xfrm>
              <a:off x="4889520" y="4341960"/>
              <a:ext cx="1130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46"/>
            <p:cNvSpPr/>
            <p:nvPr/>
          </p:nvSpPr>
          <p:spPr>
            <a:xfrm>
              <a:off x="7381800" y="3367080"/>
              <a:ext cx="1317600" cy="41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47"/>
            <p:cNvSpPr/>
            <p:nvPr/>
          </p:nvSpPr>
          <p:spPr>
            <a:xfrm>
              <a:off x="4829040" y="3340080"/>
              <a:ext cx="1222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48"/>
            <p:cNvSpPr/>
            <p:nvPr/>
          </p:nvSpPr>
          <p:spPr>
            <a:xfrm>
              <a:off x="3768840" y="3421080"/>
              <a:ext cx="7030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49"/>
            <p:cNvSpPr/>
            <p:nvPr/>
          </p:nvSpPr>
          <p:spPr>
            <a:xfrm>
              <a:off x="3598920" y="4336920"/>
              <a:ext cx="1146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50"/>
            <p:cNvSpPr/>
            <p:nvPr/>
          </p:nvSpPr>
          <p:spPr>
            <a:xfrm>
              <a:off x="3598920" y="3894120"/>
              <a:ext cx="11332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51"/>
            <p:cNvSpPr/>
            <p:nvPr/>
          </p:nvSpPr>
          <p:spPr>
            <a:xfrm>
              <a:off x="4259160" y="5432400"/>
              <a:ext cx="3780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Probabilità    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 a 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52"/>
            <p:cNvSpPr/>
            <p:nvPr/>
          </p:nvSpPr>
          <p:spPr>
            <a:xfrm rot="16200000">
              <a:off x="-213480" y="3267720"/>
              <a:ext cx="28036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Impatto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a 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3"/>
            <p:cNvSpPr/>
            <p:nvPr/>
          </p:nvSpPr>
          <p:spPr>
            <a:xfrm>
              <a:off x="3510000" y="2387520"/>
              <a:ext cx="0" cy="236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54"/>
            <p:cNvSpPr/>
            <p:nvPr/>
          </p:nvSpPr>
          <p:spPr>
            <a:xfrm>
              <a:off x="456732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55"/>
            <p:cNvSpPr/>
            <p:nvPr/>
          </p:nvSpPr>
          <p:spPr>
            <a:xfrm>
              <a:off x="4567320" y="383220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56"/>
            <p:cNvSpPr/>
            <p:nvPr/>
          </p:nvSpPr>
          <p:spPr>
            <a:xfrm>
              <a:off x="4567320" y="3398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57"/>
            <p:cNvSpPr/>
            <p:nvPr/>
          </p:nvSpPr>
          <p:spPr>
            <a:xfrm>
              <a:off x="4567320" y="292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58"/>
            <p:cNvSpPr/>
            <p:nvPr/>
          </p:nvSpPr>
          <p:spPr>
            <a:xfrm>
              <a:off x="456732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59"/>
            <p:cNvSpPr/>
            <p:nvPr/>
          </p:nvSpPr>
          <p:spPr>
            <a:xfrm>
              <a:off x="579744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0"/>
            <p:cNvSpPr/>
            <p:nvPr/>
          </p:nvSpPr>
          <p:spPr>
            <a:xfrm>
              <a:off x="7118280" y="4282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61"/>
            <p:cNvSpPr/>
            <p:nvPr/>
          </p:nvSpPr>
          <p:spPr>
            <a:xfrm>
              <a:off x="9671040" y="4282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62"/>
            <p:cNvSpPr/>
            <p:nvPr/>
          </p:nvSpPr>
          <p:spPr>
            <a:xfrm>
              <a:off x="967104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63"/>
            <p:cNvSpPr/>
            <p:nvPr/>
          </p:nvSpPr>
          <p:spPr>
            <a:xfrm>
              <a:off x="9671040" y="38527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64"/>
            <p:cNvSpPr/>
            <p:nvPr/>
          </p:nvSpPr>
          <p:spPr>
            <a:xfrm>
              <a:off x="967104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5"/>
            <p:cNvSpPr/>
            <p:nvPr/>
          </p:nvSpPr>
          <p:spPr>
            <a:xfrm>
              <a:off x="9671040" y="238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66"/>
            <p:cNvSpPr/>
            <p:nvPr/>
          </p:nvSpPr>
          <p:spPr>
            <a:xfrm>
              <a:off x="8439120" y="238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67"/>
            <p:cNvSpPr/>
            <p:nvPr/>
          </p:nvSpPr>
          <p:spPr>
            <a:xfrm>
              <a:off x="843912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68"/>
            <p:cNvSpPr/>
            <p:nvPr/>
          </p:nvSpPr>
          <p:spPr>
            <a:xfrm>
              <a:off x="843912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69"/>
            <p:cNvSpPr/>
            <p:nvPr/>
          </p:nvSpPr>
          <p:spPr>
            <a:xfrm>
              <a:off x="8439120" y="3789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70"/>
            <p:cNvSpPr/>
            <p:nvPr/>
          </p:nvSpPr>
          <p:spPr>
            <a:xfrm>
              <a:off x="7118280" y="3789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71"/>
            <p:cNvSpPr/>
            <p:nvPr/>
          </p:nvSpPr>
          <p:spPr>
            <a:xfrm>
              <a:off x="711828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72"/>
            <p:cNvSpPr/>
            <p:nvPr/>
          </p:nvSpPr>
          <p:spPr>
            <a:xfrm>
              <a:off x="711828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73"/>
            <p:cNvSpPr/>
            <p:nvPr/>
          </p:nvSpPr>
          <p:spPr>
            <a:xfrm>
              <a:off x="5797440" y="292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74"/>
            <p:cNvSpPr/>
            <p:nvPr/>
          </p:nvSpPr>
          <p:spPr>
            <a:xfrm>
              <a:off x="5797440" y="3398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75"/>
            <p:cNvSpPr/>
            <p:nvPr/>
          </p:nvSpPr>
          <p:spPr>
            <a:xfrm>
              <a:off x="571176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76"/>
            <p:cNvSpPr/>
            <p:nvPr/>
          </p:nvSpPr>
          <p:spPr>
            <a:xfrm>
              <a:off x="711828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77"/>
            <p:cNvSpPr/>
            <p:nvPr/>
          </p:nvSpPr>
          <p:spPr>
            <a:xfrm>
              <a:off x="5797440" y="383220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78"/>
            <p:cNvSpPr/>
            <p:nvPr/>
          </p:nvSpPr>
          <p:spPr>
            <a:xfrm>
              <a:off x="7381800" y="4278240"/>
              <a:ext cx="13176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79"/>
            <p:cNvSpPr/>
            <p:nvPr/>
          </p:nvSpPr>
          <p:spPr>
            <a:xfrm>
              <a:off x="843912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80"/>
            <p:cNvSpPr/>
            <p:nvPr/>
          </p:nvSpPr>
          <p:spPr>
            <a:xfrm>
              <a:off x="3510000" y="4756320"/>
              <a:ext cx="641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8" name="Picture 82" descr=""/>
          <p:cNvPicPr/>
          <p:nvPr/>
        </p:nvPicPr>
        <p:blipFill>
          <a:blip r:embed="rId1"/>
          <a:stretch/>
        </p:blipFill>
        <p:spPr>
          <a:xfrm>
            <a:off x="4457880" y="1397160"/>
            <a:ext cx="3263760" cy="4063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4" descr=""/>
          <p:cNvPicPr/>
          <p:nvPr/>
        </p:nvPicPr>
        <p:blipFill>
          <a:blip r:embed="rId2"/>
          <a:stretch/>
        </p:blipFill>
        <p:spPr>
          <a:xfrm>
            <a:off x="9121680" y="404640"/>
            <a:ext cx="1833480" cy="61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3T15:31:24Z</dcterms:created>
  <dc:creator>Ugo Porcu</dc:creator>
  <dc:description/>
  <cp:keywords/>
  <dc:language>en-US</dc:language>
  <cp:lastModifiedBy>854804roggiero</cp:lastModifiedBy>
  <dcterms:modified xsi:type="dcterms:W3CDTF">2022-04-29T09:44:40Z</dcterms:modified>
  <cp:revision>143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</vt:r8>
  </property>
  <property fmtid="{D5CDD505-2E9C-101B-9397-08002B2CF9AE}" pid="7" name="PresentationFormat">
    <vt:lpwstr>Widescreen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6</vt:r8>
  </property>
</Properties>
</file>