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92674-7F87-40BA-ABD6-1095DC0A9B1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50F1C-D0DF-45BE-9B99-883E6B7D5E2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54E5-0B82-4A82-B4A3-2B92671FA8F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0A18C-FDB2-412D-96E6-E32CD50A38E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1CCD4-061C-4675-BA08-FDD9BCB2E7B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CD470-E5D6-4838-9F49-2FD39B111F0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8FB1D-38D2-4E52-BE20-E415A0922B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A2894-0AD8-441A-A6AB-B3DC8AC712D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F027-80F8-4FE3-B755-B68D771059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8D4B4-DF32-4414-AE7B-92F2860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6D2E-7900-4408-8F07-555BB01D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8813-D493-40D4-BAEB-22ED8F17A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C46CD-5A2C-4512-86E4-65CB3C60CA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7D898-913D-407B-BE0B-1AC3DBE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9CB4D-4432-49DC-B169-8DFE9B86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3414C-ECB3-4EF4-9D12-1B60C9DF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DF60E-1F64-4CC8-9192-1E14CB6C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FF8E3-0963-452D-8C19-4BFE664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9D86E-B630-4E26-A065-E425B35C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2CDE-CEE0-4F62-ABEF-F7026875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05F82-336A-439E-957C-D4B45B6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7C913-CEB5-45FA-A957-6C80209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EB9C4-BE2B-4511-BE3E-41BD679D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829D9-02A8-4A11-B95F-52BFDB7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78B0A-0099-41D4-8AB8-E8E292E47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BC61-0CDD-4EC2-8D2F-1D0192EB51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930-6E9F-4C0A-9F87-32BE95CE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824D-FC63-45B1-B2F7-38C5705E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3C36-3F51-4A3B-AAB0-30765315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0C3F-2CBC-4DB3-B07C-797BC5A7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9AD1-8C2F-490D-ACAD-D9CE55E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0C68-7957-4D53-9490-3EE8FE2C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D5A5-FB45-491D-83CB-BBBD97E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346B-6D39-413F-83F4-79390640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168B-D085-498C-9113-B4701161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A618-D0A2-486A-841B-A5FE4966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1D47-AD04-44C0-AA31-347E957B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51DC-3E59-43E0-AB4D-197B96E5D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8585-2260-4A9A-AE11-150A4B57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6AD5-5333-4066-80E0-159DCDC7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24EA-0643-4FB3-B2B3-9166C24B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75D2-335B-4186-A3FF-1E081A3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AB89-D0D6-49E3-B39B-F42BA4F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0173-5CAB-4EB9-9A97-1023476E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7CBDF8-6745-4FCE-A1CA-E590B7EA86B0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FC7D66-D85E-4735-B094-C1206135DAF3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F31DAF-CD36-410E-9B53-CFD9DCBE972B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832968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61696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760" cy="4637160"/>
        </p:xfrm>
        <a:graphic>
          <a:graphicData uri="http://schemas.openxmlformats.org/drawingml/2006/table">
            <a:tbl>
              <a:tblPr/>
              <a:tblGrid>
                <a:gridCol w="3016080"/>
                <a:gridCol w="1554480"/>
                <a:gridCol w="1595160"/>
                <a:gridCol w="1716120"/>
                <a:gridCol w="1820880"/>
                <a:gridCol w="1481040"/>
              </a:tblGrid>
              <a:tr h="85248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125" descr=""/>
          <p:cNvPicPr/>
          <p:nvPr/>
        </p:nvPicPr>
        <p:blipFill>
          <a:blip r:embed="rId1"/>
          <a:stretch/>
        </p:blipFill>
        <p:spPr>
          <a:xfrm>
            <a:off x="890604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360" cy="3654360"/>
        </p:xfrm>
        <a:graphic>
          <a:graphicData uri="http://schemas.openxmlformats.org/drawingml/2006/table">
            <a:tbl>
              <a:tblPr/>
              <a:tblGrid>
                <a:gridCol w="2770200"/>
                <a:gridCol w="1763640"/>
                <a:gridCol w="1774800"/>
                <a:gridCol w="1486080"/>
                <a:gridCol w="1495440"/>
                <a:gridCol w="1303200"/>
              </a:tblGrid>
              <a:tr h="53496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125" descr=""/>
          <p:cNvPicPr/>
          <p:nvPr/>
        </p:nvPicPr>
        <p:blipFill>
          <a:blip r:embed="rId1"/>
          <a:stretch/>
        </p:blipFill>
        <p:spPr>
          <a:xfrm>
            <a:off x="897732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76132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Rectangle 3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0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3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8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39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2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3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5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6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47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8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49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0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51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2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4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6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7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58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9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0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1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2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3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4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5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6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7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68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69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0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1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2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3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74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5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6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77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8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79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0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82" descr=""/>
          <p:cNvPicPr/>
          <p:nvPr/>
        </p:nvPicPr>
        <p:blipFill>
          <a:blip r:embed="rId1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4" descr=""/>
          <p:cNvPicPr/>
          <p:nvPr/>
        </p:nvPicPr>
        <p:blipFill>
          <a:blip r:embed="rId2"/>
          <a:stretch/>
        </p:blipFill>
        <p:spPr>
          <a:xfrm>
            <a:off x="912168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cp:keywords/>
  <dc:language>en-US</dc:language>
  <cp:lastModifiedBy>854804roggiero</cp:lastModifiedBy>
  <dcterms:modified xsi:type="dcterms:W3CDTF">2022-04-29T09:44:40Z</dcterms:modified>
  <cp:revision>14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