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4C5E7-EEEC-449F-A52C-F97EE89B8F0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66E84-C04D-49F2-A34F-929A863C5B9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54E48-5B5F-43F9-B241-0F71A296EE8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00194-9BA9-4F54-AB96-9AAF6D87668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62853-8234-4E8F-839E-0CDBFFD79F2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18CC6-C417-459F-BB9A-2B78E58FC95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1AA1D-3177-443D-B1C2-8F1287FBA1F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7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89474-348C-4B8C-87B4-3E483C8A9F2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BFAC-C0C1-4972-8739-82B388555A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DE81-7415-4498-88F8-237411BC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1809-3E05-4867-888B-59636C90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9285-7F91-4478-8990-64B7AEBD20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66401-EEFA-48EE-B13B-C46FC31E0C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89EDB-9D29-45C3-B99A-781E969F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14461-B686-4E81-A8DA-0B85E479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6D7E0-D629-4D73-B393-2DFA4FA6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7626B-0505-4B31-AC55-E8C12DFB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BEB1CC-32D3-413A-AEC1-68199E27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2EEB8-3DF4-46D3-AFBA-A3864BCF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C21A-0CF5-4BBE-9124-C25017B1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7BC25-23A7-45DD-BBAF-BD50E3BE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48738-2EB6-499B-9563-AE39F8EC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42EFA-BD54-4BD9-A7E0-1FFD3120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E5826-8D7B-4027-8DDF-24902E8A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2C235-B121-4C7A-AC8E-4B8AD6FAD7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FB7C-D9FD-4111-8793-0F3D4E986B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4ACC-50E1-48F8-BE96-85123C2C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58CF-6F5A-4ABF-9768-2D2C95DB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B186-4A97-4D59-8FBA-D9F5490F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324E-687B-4E44-B7AC-942173BD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2814-29A4-4F25-9591-1EB61610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435E-CC76-4E39-8C17-26C168F5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D5D0-2CE2-48E8-931B-A76634C0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FF73-FAB5-44C3-9A91-DF3FE4D4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C2D7-7E87-4BD0-B5FF-B500A8C4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8739-0382-4A70-A29F-78FD4871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66E0-BED9-4084-899B-EDE569C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4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1928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28720" y="3681360"/>
            <a:ext cx="35326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BC6F-4B3D-455E-8AA7-A44F0F7248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6A37-66B7-4899-9EDE-5C97FDD6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A41BC-6022-4FEC-8551-F0F6F4B3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96560" y="286920"/>
            <a:ext cx="10055160" cy="67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FDEE-BEBF-4BDC-BB1D-54BC06FB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CB4FE-671D-47BE-8992-3ED830FE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68136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CFFD-9004-43E2-8DF6-E83ACAAC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1360"/>
            <a:ext cx="109713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FBFC4-19A1-4D72-BB7C-0366ECE1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 hidden="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 hidden="1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208160" y="4343400"/>
            <a:ext cx="987588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6560" y="758520"/>
            <a:ext cx="1005516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0/01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CA4862-C6D5-4FB4-B07C-54A494577FB2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560" y="1846080"/>
            <a:ext cx="1005516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819410-0DF0-49D7-AD0C-6490F441934A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6560" y="286920"/>
            <a:ext cx="10055160" cy="14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1096920" y="6459480"/>
            <a:ext cx="24703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9901080" y="6459480"/>
            <a:ext cx="130824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BC7B41-5C2D-44BE-B53C-D189587776A8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 Light"/>
              </a:rPr>
              <a:t>Misurazione del Rischio – Allegato 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637052"/>
                </a:solidFill>
                <a:latin typeface="Calibri Light"/>
              </a:rPr>
              <a:t>METODOLOGIA E INDICATOR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8329680" y="47628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l presente documento illustra sinteticamente la metodologia attuata da ATS a decorrere dal 201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misurazione del rischio prevede l’attribuzione di un valore alle due variabili caratterizzanti il rischio stess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Probabilità che l’evento accada (P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atto che tale evento genera (I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’interazione delle singole variabili consente di definire il livello di rischio del singolo proces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er ogni variabile sono stati individuati i fattori di valutaz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8616960" y="47628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obabilità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3120" y="1670040"/>
          <a:ext cx="11183760" cy="4637160"/>
        </p:xfrm>
        <a:graphic>
          <a:graphicData uri="http://schemas.openxmlformats.org/drawingml/2006/table">
            <a:tbl>
              <a:tblPr/>
              <a:tblGrid>
                <a:gridCol w="3016080"/>
                <a:gridCol w="1554480"/>
                <a:gridCol w="1595160"/>
                <a:gridCol w="1716120"/>
                <a:gridCol w="1820880"/>
                <a:gridCol w="1481040"/>
              </a:tblGrid>
              <a:tr h="85248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c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t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amente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ndice di Discrezionalità de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ol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dalla legge e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lla leg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amente discre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decentralizzazione (UP, filiale, reg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à opera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manualità (vs automaz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Manu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Efficacia dei controlli, per la neutralizzazione dei rischi, sulla base della esperienza pregre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un efficace strumento per neutralizzare i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olto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edi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inim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non incide sul rischi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ilevanza Esterna: il processo ha come destinatari uffici interni alla ATS o utenti e  ester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non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media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elevata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125" descr=""/>
          <p:cNvPicPr/>
          <p:nvPr/>
        </p:nvPicPr>
        <p:blipFill>
          <a:blip r:embed="rId1"/>
          <a:stretch/>
        </p:blipFill>
        <p:spPr>
          <a:xfrm>
            <a:off x="8906040" y="33336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mpatto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87400" y="1819440"/>
          <a:ext cx="10593360" cy="3654360"/>
        </p:xfrm>
        <a:graphic>
          <a:graphicData uri="http://schemas.openxmlformats.org/drawingml/2006/table">
            <a:tbl>
              <a:tblPr/>
              <a:tblGrid>
                <a:gridCol w="2770200"/>
                <a:gridCol w="1763640"/>
                <a:gridCol w="1774800"/>
                <a:gridCol w="1486080"/>
                <a:gridCol w="1495440"/>
                <a:gridCol w="1303200"/>
              </a:tblGrid>
              <a:tr h="53496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scurab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/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tto Economico: Sono state  pronunciate sentenze delle Corte conti o sentenze di risarcimento danno o comminate sanzio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umerosità di persone coinvol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3 -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6 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11 -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ltre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mpatto economico potenzi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riore a 1.000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.001 euro e 1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0.001 euro e 5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50.001 euro e 10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tre 100.001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collocazione de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t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ico di organizz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U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UO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ono stati pubblicati su riviste giornali articoli aventi ad oggetto i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ricor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loc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inter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125" descr=""/>
          <p:cNvPicPr/>
          <p:nvPr/>
        </p:nvPicPr>
        <p:blipFill>
          <a:blip r:embed="rId1"/>
          <a:stretch/>
        </p:blipFill>
        <p:spPr>
          <a:xfrm>
            <a:off x="8977320" y="333360"/>
            <a:ext cx="1833480" cy="6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Valut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 probabilità (P) e o l’Impatto (I) sono misurati come la media dei punteggi attribuiti a ciascun fatt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’Indice di Rischio è dato dalla moltiplicazione del valore (medio) di probabilità con il valore (medio) di impatto: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R = P x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 Processi sono così classificat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Bass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inferiore o uguale a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5 e inferiore o uguale a 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/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9 e inferiore o uguale a 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1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761320" y="404640"/>
            <a:ext cx="1833480" cy="6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isur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oup 2"/>
          <p:cNvGrpSpPr/>
          <p:nvPr/>
        </p:nvGrpSpPr>
        <p:grpSpPr>
          <a:xfrm>
            <a:off x="884160" y="2170080"/>
            <a:ext cx="9134640" cy="3962520"/>
            <a:chOff x="884160" y="2170080"/>
            <a:chExt cx="9134640" cy="3962520"/>
          </a:xfrm>
        </p:grpSpPr>
        <p:sp>
          <p:nvSpPr>
            <p:cNvPr id="160" name="Rectangle 3"/>
            <p:cNvSpPr/>
            <p:nvPr/>
          </p:nvSpPr>
          <p:spPr>
            <a:xfrm>
              <a:off x="7469280" y="4863960"/>
              <a:ext cx="10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4"/>
            <p:cNvSpPr/>
            <p:nvPr/>
          </p:nvSpPr>
          <p:spPr>
            <a:xfrm>
              <a:off x="5888160" y="4863960"/>
              <a:ext cx="17190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8790120" y="4863960"/>
              <a:ext cx="116676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Molto 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3522600" y="4826160"/>
              <a:ext cx="1285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Rar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1776240" y="4772160"/>
              <a:ext cx="171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4830840" y="4863960"/>
              <a:ext cx="131760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Bass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9"/>
            <p:cNvSpPr/>
            <p:nvPr/>
          </p:nvSpPr>
          <p:spPr>
            <a:xfrm>
              <a:off x="1749600" y="2495520"/>
              <a:ext cx="17157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1773360" y="29383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/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11"/>
            <p:cNvSpPr/>
            <p:nvPr/>
          </p:nvSpPr>
          <p:spPr>
            <a:xfrm>
              <a:off x="1749600" y="3355920"/>
              <a:ext cx="17668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12"/>
            <p:cNvSpPr/>
            <p:nvPr/>
          </p:nvSpPr>
          <p:spPr>
            <a:xfrm>
              <a:off x="1773360" y="389412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Basso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3"/>
            <p:cNvSpPr/>
            <p:nvPr/>
          </p:nvSpPr>
          <p:spPr>
            <a:xfrm>
              <a:off x="1838160" y="4325760"/>
              <a:ext cx="17161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Trascur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4"/>
            <p:cNvSpPr/>
            <p:nvPr/>
          </p:nvSpPr>
          <p:spPr>
            <a:xfrm>
              <a:off x="8704440" y="241308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061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06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5"/>
            <p:cNvSpPr/>
            <p:nvPr/>
          </p:nvSpPr>
          <p:spPr>
            <a:xfrm>
              <a:off x="7377120" y="2413080"/>
              <a:ext cx="132408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6045120" y="241308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7"/>
            <p:cNvSpPr/>
            <p:nvPr/>
          </p:nvSpPr>
          <p:spPr>
            <a:xfrm>
              <a:off x="5881680" y="25290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8704440" y="2881440"/>
              <a:ext cx="122544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9"/>
            <p:cNvSpPr/>
            <p:nvPr/>
          </p:nvSpPr>
          <p:spPr>
            <a:xfrm>
              <a:off x="7377120" y="2881440"/>
              <a:ext cx="1324080" cy="46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7540560" y="2951280"/>
              <a:ext cx="101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6033960" y="2878200"/>
              <a:ext cx="1330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881680" y="2944800"/>
              <a:ext cx="17161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8955000" y="2957400"/>
              <a:ext cx="720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24"/>
            <p:cNvSpPr/>
            <p:nvPr/>
          </p:nvSpPr>
          <p:spPr>
            <a:xfrm>
              <a:off x="8704440" y="333360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25"/>
            <p:cNvSpPr/>
            <p:nvPr/>
          </p:nvSpPr>
          <p:spPr>
            <a:xfrm>
              <a:off x="6045120" y="3333600"/>
              <a:ext cx="133056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6"/>
            <p:cNvSpPr/>
            <p:nvPr/>
          </p:nvSpPr>
          <p:spPr>
            <a:xfrm>
              <a:off x="5854680" y="3394080"/>
              <a:ext cx="1765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8832960" y="34099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28"/>
            <p:cNvSpPr/>
            <p:nvPr/>
          </p:nvSpPr>
          <p:spPr>
            <a:xfrm>
              <a:off x="8704440" y="380052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9"/>
            <p:cNvSpPr/>
            <p:nvPr/>
          </p:nvSpPr>
          <p:spPr>
            <a:xfrm>
              <a:off x="7377120" y="3800520"/>
              <a:ext cx="132408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30"/>
            <p:cNvSpPr/>
            <p:nvPr/>
          </p:nvSpPr>
          <p:spPr>
            <a:xfrm>
              <a:off x="6045120" y="380052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1"/>
            <p:cNvSpPr/>
            <p:nvPr/>
          </p:nvSpPr>
          <p:spPr>
            <a:xfrm>
              <a:off x="8832960" y="3879720"/>
              <a:ext cx="9842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32"/>
            <p:cNvSpPr/>
            <p:nvPr/>
          </p:nvSpPr>
          <p:spPr>
            <a:xfrm>
              <a:off x="8704440" y="4267080"/>
              <a:ext cx="1225440" cy="462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3"/>
            <p:cNvSpPr/>
            <p:nvPr/>
          </p:nvSpPr>
          <p:spPr>
            <a:xfrm>
              <a:off x="6045120" y="4267080"/>
              <a:ext cx="133056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Bass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4"/>
            <p:cNvSpPr/>
            <p:nvPr/>
          </p:nvSpPr>
          <p:spPr>
            <a:xfrm>
              <a:off x="3510000" y="2387520"/>
              <a:ext cx="1317600" cy="53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5"/>
            <p:cNvSpPr/>
            <p:nvPr/>
          </p:nvSpPr>
          <p:spPr>
            <a:xfrm>
              <a:off x="4811760" y="2403360"/>
              <a:ext cx="1224000" cy="468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-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36"/>
            <p:cNvSpPr/>
            <p:nvPr/>
          </p:nvSpPr>
          <p:spPr>
            <a:xfrm>
              <a:off x="4827600" y="2878200"/>
              <a:ext cx="122220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37"/>
            <p:cNvSpPr/>
            <p:nvPr/>
          </p:nvSpPr>
          <p:spPr>
            <a:xfrm>
              <a:off x="3497400" y="2874960"/>
              <a:ext cx="132552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38"/>
            <p:cNvSpPr/>
            <p:nvPr/>
          </p:nvSpPr>
          <p:spPr>
            <a:xfrm>
              <a:off x="3587760" y="2949480"/>
              <a:ext cx="1144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39"/>
            <p:cNvSpPr/>
            <p:nvPr/>
          </p:nvSpPr>
          <p:spPr>
            <a:xfrm>
              <a:off x="3492360" y="33400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40"/>
            <p:cNvSpPr/>
            <p:nvPr/>
          </p:nvSpPr>
          <p:spPr>
            <a:xfrm>
              <a:off x="4818240" y="3809880"/>
              <a:ext cx="12254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41"/>
            <p:cNvSpPr/>
            <p:nvPr/>
          </p:nvSpPr>
          <p:spPr>
            <a:xfrm>
              <a:off x="3492360" y="3809880"/>
              <a:ext cx="132264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42"/>
            <p:cNvSpPr/>
            <p:nvPr/>
          </p:nvSpPr>
          <p:spPr>
            <a:xfrm>
              <a:off x="5114880" y="3886200"/>
              <a:ext cx="7048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43"/>
            <p:cNvSpPr/>
            <p:nvPr/>
          </p:nvSpPr>
          <p:spPr>
            <a:xfrm>
              <a:off x="4818240" y="4272120"/>
              <a:ext cx="12254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44"/>
            <p:cNvSpPr/>
            <p:nvPr/>
          </p:nvSpPr>
          <p:spPr>
            <a:xfrm>
              <a:off x="3492360" y="4272120"/>
              <a:ext cx="132264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45"/>
            <p:cNvSpPr/>
            <p:nvPr/>
          </p:nvSpPr>
          <p:spPr>
            <a:xfrm>
              <a:off x="4889520" y="4341960"/>
              <a:ext cx="113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46"/>
            <p:cNvSpPr/>
            <p:nvPr/>
          </p:nvSpPr>
          <p:spPr>
            <a:xfrm>
              <a:off x="7381800" y="3367080"/>
              <a:ext cx="1317600" cy="41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47"/>
            <p:cNvSpPr/>
            <p:nvPr/>
          </p:nvSpPr>
          <p:spPr>
            <a:xfrm>
              <a:off x="4829040" y="3340080"/>
              <a:ext cx="1222560" cy="46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48"/>
            <p:cNvSpPr/>
            <p:nvPr/>
          </p:nvSpPr>
          <p:spPr>
            <a:xfrm>
              <a:off x="3768840" y="3421080"/>
              <a:ext cx="7030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49"/>
            <p:cNvSpPr/>
            <p:nvPr/>
          </p:nvSpPr>
          <p:spPr>
            <a:xfrm>
              <a:off x="3598920" y="4336920"/>
              <a:ext cx="11462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50"/>
            <p:cNvSpPr/>
            <p:nvPr/>
          </p:nvSpPr>
          <p:spPr>
            <a:xfrm>
              <a:off x="3598920" y="3894120"/>
              <a:ext cx="113328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51"/>
            <p:cNvSpPr/>
            <p:nvPr/>
          </p:nvSpPr>
          <p:spPr>
            <a:xfrm>
              <a:off x="4259160" y="5432400"/>
              <a:ext cx="37800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Probabilità    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 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2"/>
            <p:cNvSpPr/>
            <p:nvPr/>
          </p:nvSpPr>
          <p:spPr>
            <a:xfrm rot="16200000">
              <a:off x="-213480" y="3267720"/>
              <a:ext cx="28036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Impatto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3"/>
            <p:cNvSpPr/>
            <p:nvPr/>
          </p:nvSpPr>
          <p:spPr>
            <a:xfrm>
              <a:off x="3510000" y="2387520"/>
              <a:ext cx="0" cy="236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54"/>
            <p:cNvSpPr/>
            <p:nvPr/>
          </p:nvSpPr>
          <p:spPr>
            <a:xfrm>
              <a:off x="45673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456732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56"/>
            <p:cNvSpPr/>
            <p:nvPr/>
          </p:nvSpPr>
          <p:spPr>
            <a:xfrm>
              <a:off x="456732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7"/>
            <p:cNvSpPr/>
            <p:nvPr/>
          </p:nvSpPr>
          <p:spPr>
            <a:xfrm>
              <a:off x="456732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58"/>
            <p:cNvSpPr/>
            <p:nvPr/>
          </p:nvSpPr>
          <p:spPr>
            <a:xfrm>
              <a:off x="456732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9"/>
            <p:cNvSpPr/>
            <p:nvPr/>
          </p:nvSpPr>
          <p:spPr>
            <a:xfrm>
              <a:off x="579744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0"/>
            <p:cNvSpPr/>
            <p:nvPr/>
          </p:nvSpPr>
          <p:spPr>
            <a:xfrm>
              <a:off x="711828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61"/>
            <p:cNvSpPr/>
            <p:nvPr/>
          </p:nvSpPr>
          <p:spPr>
            <a:xfrm>
              <a:off x="9671040" y="4282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2"/>
            <p:cNvSpPr/>
            <p:nvPr/>
          </p:nvSpPr>
          <p:spPr>
            <a:xfrm>
              <a:off x="967104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63"/>
            <p:cNvSpPr/>
            <p:nvPr/>
          </p:nvSpPr>
          <p:spPr>
            <a:xfrm>
              <a:off x="9671040" y="38527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64"/>
            <p:cNvSpPr/>
            <p:nvPr/>
          </p:nvSpPr>
          <p:spPr>
            <a:xfrm>
              <a:off x="967104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5"/>
            <p:cNvSpPr/>
            <p:nvPr/>
          </p:nvSpPr>
          <p:spPr>
            <a:xfrm>
              <a:off x="967104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66"/>
            <p:cNvSpPr/>
            <p:nvPr/>
          </p:nvSpPr>
          <p:spPr>
            <a:xfrm>
              <a:off x="8439120" y="238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67"/>
            <p:cNvSpPr/>
            <p:nvPr/>
          </p:nvSpPr>
          <p:spPr>
            <a:xfrm>
              <a:off x="843912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68"/>
            <p:cNvSpPr/>
            <p:nvPr/>
          </p:nvSpPr>
          <p:spPr>
            <a:xfrm>
              <a:off x="843912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69"/>
            <p:cNvSpPr/>
            <p:nvPr/>
          </p:nvSpPr>
          <p:spPr>
            <a:xfrm>
              <a:off x="843912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70"/>
            <p:cNvSpPr/>
            <p:nvPr/>
          </p:nvSpPr>
          <p:spPr>
            <a:xfrm>
              <a:off x="7118280" y="3789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71"/>
            <p:cNvSpPr/>
            <p:nvPr/>
          </p:nvSpPr>
          <p:spPr>
            <a:xfrm>
              <a:off x="7118280" y="33559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72"/>
            <p:cNvSpPr/>
            <p:nvPr/>
          </p:nvSpPr>
          <p:spPr>
            <a:xfrm>
              <a:off x="7118280" y="28843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73"/>
            <p:cNvSpPr/>
            <p:nvPr/>
          </p:nvSpPr>
          <p:spPr>
            <a:xfrm>
              <a:off x="5797440" y="292752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74"/>
            <p:cNvSpPr/>
            <p:nvPr/>
          </p:nvSpPr>
          <p:spPr>
            <a:xfrm>
              <a:off x="5797440" y="3398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75"/>
            <p:cNvSpPr/>
            <p:nvPr/>
          </p:nvSpPr>
          <p:spPr>
            <a:xfrm>
              <a:off x="571176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76"/>
            <p:cNvSpPr/>
            <p:nvPr/>
          </p:nvSpPr>
          <p:spPr>
            <a:xfrm>
              <a:off x="7118280" y="24303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77"/>
            <p:cNvSpPr/>
            <p:nvPr/>
          </p:nvSpPr>
          <p:spPr>
            <a:xfrm>
              <a:off x="5797440" y="383220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8"/>
            <p:cNvSpPr/>
            <p:nvPr/>
          </p:nvSpPr>
          <p:spPr>
            <a:xfrm>
              <a:off x="7381800" y="4278240"/>
              <a:ext cx="13176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79"/>
            <p:cNvSpPr/>
            <p:nvPr/>
          </p:nvSpPr>
          <p:spPr>
            <a:xfrm>
              <a:off x="8439120" y="4325760"/>
              <a:ext cx="34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80"/>
            <p:cNvSpPr/>
            <p:nvPr/>
          </p:nvSpPr>
          <p:spPr>
            <a:xfrm>
              <a:off x="3510000" y="4756320"/>
              <a:ext cx="6419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Picture 82" descr=""/>
          <p:cNvPicPr/>
          <p:nvPr/>
        </p:nvPicPr>
        <p:blipFill>
          <a:blip r:embed="rId1"/>
          <a:stretch/>
        </p:blipFill>
        <p:spPr>
          <a:xfrm>
            <a:off x="4457880" y="1397160"/>
            <a:ext cx="3263760" cy="406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4" descr=""/>
          <p:cNvPicPr/>
          <p:nvPr/>
        </p:nvPicPr>
        <p:blipFill>
          <a:blip r:embed="rId2"/>
          <a:stretch/>
        </p:blipFill>
        <p:spPr>
          <a:xfrm>
            <a:off x="9121680" y="404640"/>
            <a:ext cx="1833480" cy="617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5:31:24Z</dcterms:created>
  <dc:creator>Ugo Porcu</dc:creator>
  <dc:description/>
  <cp:keywords/>
  <dc:language>en-US</dc:language>
  <cp:lastModifiedBy>854804roggiero</cp:lastModifiedBy>
  <dcterms:modified xsi:type="dcterms:W3CDTF">2022-04-29T09:44:40Z</dcterms:modified>
  <cp:revision>143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