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1D5BD-10D9-41D6-8EDC-14B70628669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03A1-2219-4138-AF16-22288F914F6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9E782-34BE-4B85-8D58-AEF6544CA1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4CD8-4433-454F-9060-4E07274F0C7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A4B55-69AC-48BD-9327-ED94A65B18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B96DA-BD17-403C-9334-5D2D255203A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B23AF-A16B-4CB2-AB3D-7C42B31A29B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3601-8F58-40DC-A965-3BAAB450F87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210F-91C9-46BD-B4ED-BFEF02234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50E7-CA9E-4792-AEC6-E013F2DA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F046-83D9-4EBE-B673-5DB0203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B8B6-2568-4D79-B62E-4CB32AB47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670D-58D0-4314-A6A4-78D150391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6336C-2855-4C86-9B41-3389703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EFA65-09B5-4883-9212-71D17DD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4B99C-CCF0-4E8B-A7AB-A3E4B7E4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28345-199E-46D7-B336-C195824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7AAB-BD7A-4EC5-90D9-F4CCFFF1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62B11-22A8-443A-BD1B-9F2ABA23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2079-9769-4FA4-8125-44BA31FB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2BE0-C54D-454D-803A-E4611A6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E4E27-617C-4D39-A511-E1099231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78BA2-795C-4C72-83FD-5A25B51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3568C-1963-41B5-B135-1FC6E89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F4D9-FEAD-415A-AD1C-BDF07A5B5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C520-A817-4469-98BF-ACA2A3432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B09B-43D1-4D0E-BC6B-927CFA8F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8E7E-B522-4217-A642-FF4B245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E34-C9E4-42DB-8947-D408FFDC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864B-D7F6-4E28-8B8B-93F85940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5945-5C73-4789-AD5B-3042A4B5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7AB-F9C7-4039-A0AA-7C5B6FA3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0397-FFD4-43F9-BA29-A8A7B237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7930-2EE0-4C6B-8259-D12767EC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E57A-51FE-41EE-A5D1-1F253167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9A28-9A58-45EF-9905-F732437F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2DE9-57F9-4665-BE82-C62C5B1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007D-20FC-422F-BA63-039DF8D6E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F5B5-C2A1-4E8B-9BF6-8019EAC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FD75-F623-4025-BF34-4CC58E85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C059-C0D0-4850-999A-D74CDAEC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C251-91F5-4A2F-A86F-4A99D5D0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AC3A-F448-4698-B5B2-8DFBC8A0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B49E-CBDC-4B57-A0A4-7D8069D5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B2B2D7-D31B-4298-BFB5-5149632A9338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CC87F3-2609-457A-AEF0-C675B98AF945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DD4902-03D3-44D2-BA49-4A58784B4B35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832968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1696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760" cy="463716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52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25" descr=""/>
          <p:cNvPicPr/>
          <p:nvPr/>
        </p:nvPicPr>
        <p:blipFill>
          <a:blip r:embed="rId1"/>
          <a:stretch/>
        </p:blipFill>
        <p:spPr>
          <a:xfrm>
            <a:off x="890604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543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3496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25" descr=""/>
          <p:cNvPicPr/>
          <p:nvPr/>
        </p:nvPicPr>
        <p:blipFill>
          <a:blip r:embed="rId1"/>
          <a:stretch/>
        </p:blipFill>
        <p:spPr>
          <a:xfrm>
            <a:off x="897732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76132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Rectangle 3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8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9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5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6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7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8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49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0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2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4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6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8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0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1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3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4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5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7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68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69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0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1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2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3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4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5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6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7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8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79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0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82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4" descr=""/>
          <p:cNvPicPr/>
          <p:nvPr/>
        </p:nvPicPr>
        <p:blipFill>
          <a:blip r:embed="rId2"/>
          <a:stretch/>
        </p:blipFill>
        <p:spPr>
          <a:xfrm>
            <a:off x="912168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cp:keywords/>
  <dc:language>en-US</dc:language>
  <cp:lastModifiedBy>854804roggiero</cp:lastModifiedBy>
  <dcterms:modified xsi:type="dcterms:W3CDTF">2022-04-29T09:44:40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